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22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B3C0-0240-4CC6-A148-DD14CB6944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3B7C-7BBA-4BE9-A034-33782A6E45D1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6B93-9D60-4834-85BD-E163A03F790E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57EFF-A852-40CD-9F75-9281CE039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44550-A054-4851-84FC-708DC8BB7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83823-EF02-4A31-9663-85FDA649C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8713B-DCEF-41CE-901B-637529CA5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E3AB4-CD8B-4F2D-8204-27B29C0B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DF4E6-BB22-437A-85FD-2D4A9C0C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560BC-E5CE-4DE0-AFF6-C4F97C2C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99BB3-0EA5-4ED7-A3AB-F8EC9C4C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A36D4-64AF-4871-A556-11EBB4F1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EFFE6-31B5-4EF9-952A-2AFAC929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69F3F-107F-4C7A-9DED-AC771657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A3A95-EB83-45B7-A0F1-C75C103CB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D9304-FC5E-485F-B955-7F8B0F5E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4AC72-E5B7-431D-88A7-ADCF4B3B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319FB-A5BD-482E-9DBB-519B4C7A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C16EA-13C8-407C-991A-432EF3B0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DE542-254B-4BFB-B138-EECDAD03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BE029-18BF-47A1-BCA2-F03E749E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BC966C-183E-4639-B2D4-22CA90C1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24047-ABC4-432F-B645-8BA7BDCE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5FB84-3708-448F-B4AB-A3D710A1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DCF73-7C44-4135-93DC-56999FFF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D4FDA-0285-4413-A8C1-CA7356670F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91C54-3536-4F28-BDBE-8178B39C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00F71-96E5-4424-AD4E-02B929B0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1D059-F477-424D-A328-169CA5CD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9226E-6585-4B0D-9EFF-D66253CD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1F170-4AC7-4034-8C17-9CA4D988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7048A-E948-450C-9A0C-F992C062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4DF2C-EBB8-45D5-A042-922A59DC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F50605-8193-451F-9915-84EB5335CA7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D553F7-F108-49D3-B3FA-B5D4A80F1B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BB2357-9F44-4399-B6AF-D5AA643F1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3B6EB-9C0A-4DB1-9511-2F1A41B554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AF3AC6-DF99-4E2A-8F81-4985C147830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5F6697-ADFE-4491-B957-60AB65A87A7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6451E4-7828-4644-B4E5-679FD61425F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D650B3-634B-4446-9B5A-C530477C51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B66808-F05C-4368-9F5F-D94365D0D3B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E64670-7A1D-4D55-8BC0-15C30F0CE3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3F2483-31D7-4D15-90EE-18943D3BE6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2D54B8-C192-4255-9431-05EC4846F9C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B9F8E4-049B-41E3-B28E-67134CD31E9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AB22A-F5D0-481A-8D13-D0798FAAF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BBB8E-98ED-4264-8A04-02054F341E1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A1037-D090-4CF2-8E7A-AC5373CC0C2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C7993-3F30-4A05-9523-6631B16188B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D60F4-24C3-4F95-B3E8-7E889E99C39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45C6D-500B-467B-AA28-08D4D23794A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E11CB-5C7A-4EFD-9057-EF83C1B43C9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19506-0714-493F-95F3-541F6D12B46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74F82-DBE1-4840-A0D5-8AFA767BD71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BD113-7DC2-4852-B1DA-B2D9F79BE98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46484-3D2B-42D5-9F3B-09CE4591C76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565CF-7E6D-4BDE-AB9A-0E78AB44D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B2E4B-B74E-476E-967A-AE6D75A9B85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7D22F-BC98-4CFE-B77C-BA2523026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78524-04DA-43B9-91FF-2664EDD17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BF49-FD0C-4F94-9DFF-D4CDF81AD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09BF-9DAD-4731-84FC-ABADD3B33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ADDD2A3-8A62-471F-B32C-584EA1432B4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A1DB4D0-9BD6-4378-8D73-33B6B35000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70A4-3DE6-45FF-B2A9-E2C932EC813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AF2C-5C7C-4E3E-906C-29C8D4E2C18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9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4CA1195-0289-4081-BDD0-3CFEDF081C4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2A49576-D083-48D9-8527-9354E59AD7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81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196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cid:image004.png@01D7B519.9E61D320"/>
          <p:cNvPicPr/>
          <p:nvPr/>
        </p:nvPicPr>
        <p:blipFill>
          <a:blip r:embed="rId3"/>
          <a:stretch/>
        </p:blipFill>
        <p:spPr>
          <a:xfrm>
            <a:off x="3228840" y="20016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C031D51C-52E9-4A53-9CDB-B9FC6DCF1C30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FE59FAFB-F9E9-4DF3-B593-051B199764B8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292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304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316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28.89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12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3.95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9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75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388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13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17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421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2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36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40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6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447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51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2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4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21-10-26T08:08:44Z</dcterms:modified>
  <cp:revision>373</cp:revision>
  <dc:subject/>
  <dc:title>No Slide Title</dc:title>
</cp:coreProperties>
</file>